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1A00-4AC6-4130-8DAA-2B8B8ACE6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3BC0-F5D8-4C1C-972D-793E8B499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C249-9C9F-441D-BC96-E98BFEAAE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BD45-C4B1-4591-B677-BAF4FB6FC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E6CE-A5E2-46E1-B5B5-3EABEDF3F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0D762-7298-4C31-9593-3CB04F298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4777-EA7C-48B0-BC86-A565375DB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9EB0-658E-423B-AA1F-65C115E58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F6C8-5785-42C3-A41F-2D63B341C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E69C-C9B7-440D-B109-B45522DC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9334F-34BA-434A-8A0F-ECBDB6F79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76EB-14ED-4500-A2C7-074E57E14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C2FAF-9CDE-4D45-9D7F-17E07BC3AD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666880" y="2755800"/>
            <a:ext cx="3808440" cy="13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8T09:33:20Z</dcterms:created>
  <dc:creator>CEPHA</dc:creator>
  <dc:description/>
  <dc:language>en-US</dc:language>
  <cp:lastModifiedBy>kiran</cp:lastModifiedBy>
  <dcterms:modified xsi:type="dcterms:W3CDTF">2007-11-13T08:32:14Z</dcterms:modified>
  <cp:revision>2</cp:revision>
  <dc:subject/>
  <dc:title>Slide 1</dc:title>
</cp:coreProperties>
</file>