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D2A1-BD11-4F86-A4BC-13A2D5AE7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1811B-56C5-4C40-9AA8-743498F8F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B4B52-4BE8-4AFC-88A9-D594F168A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7BDA6-C326-4CEA-A1BF-62B20E374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C71E-EA9B-4B7B-A0D7-1EED736DB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44E4-77A1-402E-92DA-94BFF692B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3CB4-CBFB-4A48-B39A-0D419B27F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4F45-9675-47EE-9CE4-9239AE060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0A471-7BBB-4E29-BD5B-42082ABB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4457F-5A60-41FC-8AD0-6219B0B87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399-585E-4FC7-BA4D-1688C0769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A2F4-939F-4968-8F2A-9CB4F03C3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33165-1751-4DEC-98D6-3EFEA7E12E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730600"/>
            <a:ext cx="380844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7Z</dcterms:modified>
  <cp:revision>2</cp:revision>
  <dc:subject/>
  <dc:title>Slide 1</dc:title>
</cp:coreProperties>
</file>