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6770-3BC3-4CCB-BCDA-D2FB89EBE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5D0-9F44-48C0-8691-1F8D4A267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DEF9-5659-471A-95B6-3A9F73395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B42F-4B4B-4700-B460-211D80003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E6BC-614C-4738-946D-B595D8788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BAC0-A4B4-41B8-AE7D-24A9D9B6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E7AB4-FC3D-485A-ADEA-0F7D8D18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3477-2DA3-4F74-A3B4-584160AC9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FA17-B057-4A76-A647-554E8D2DA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9BE42-6E9D-4EF6-AFA7-91929F493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BC8CC-5B3A-46B1-A2EE-0C215D4E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82B0-ACD5-4D85-950D-C1E3735E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DDF3-4C35-49CA-BEDB-9C41F59FF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3Z</dcterms:modified>
  <cp:revision>2</cp:revision>
  <dc:subject/>
  <dc:title>Slide 1</dc:title>
</cp:coreProperties>
</file>