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EBC0-53DF-4826-830F-1840FD19F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DF1B-42BC-4DD7-B520-A15FA33A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ED93-13E0-4F3F-BA0A-21292A63D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A29A9-60C2-4BD2-ACCB-543FF6F0E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C8067-AA40-4061-9FF1-25E671FBF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35B5E-2E36-49F1-9F12-10A70538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EAB6-DCEF-46DF-8C21-292E236A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A781-9A8E-44E9-804B-6F2DC58B2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B12E-332F-4001-9736-3F7A2EF58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284D-20BC-43F6-832E-0DC09CBA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FE1D-B14D-4730-9CEF-774A261F5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B320-CA97-42DB-A322-691E2FC12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66F7B-12E5-44A8-B3BF-19EBE34A6E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4Z</dcterms:modified>
  <cp:revision>2</cp:revision>
  <dc:subject/>
  <dc:title>Slide 1</dc:title>
</cp:coreProperties>
</file>