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BB9D-1467-4A34-B9EF-45764C651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B89C-2EC4-4157-AEE1-7656159E3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69C7E-F82F-450A-8D6E-6FE8C2037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AF8EA-10A7-4A8E-82E3-9753D2EE7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4C7-E47B-45F0-B386-F4E72439E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AE9D-8662-414A-B334-1EFA27E64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5AB9-0729-4CD5-A955-B10CF7B84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83B-6C19-4643-B63A-C2C996C2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1DD4-6228-4849-A164-8AE32BD8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05B4-F2FF-4E89-9D98-4EE53F53A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6D10-A8C4-40E8-A583-4EC07317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2C9-7E74-4993-B14F-BA7EFDFC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6D804-7939-435F-B2B9-8412B21F41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540160"/>
            <a:ext cx="380844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6Z</dcterms:modified>
  <cp:revision>2</cp:revision>
  <dc:subject/>
  <dc:title>Slide 1</dc:title>
</cp:coreProperties>
</file>