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1792-5D4C-40E0-84C3-5E35AFE0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3534-931C-4578-ABD2-7584241BB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27D6-DD8F-4F2D-AB63-8EA8C9A2C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65F58-B665-433E-B41B-C2FF5017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BC6F-F4F0-4EF8-8B57-E54EB7AF4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770E-5A2B-4FC9-BB99-53727D3DF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8E320-006A-414B-8686-BED241617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8B097-E3C3-44AB-BF53-F7083BC06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2F71-3C55-4614-A1BC-01649FF7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B751-6E5A-4B04-AEEB-A902EE607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7FFF-127D-470A-8D11-EE0D8A03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2C7A-73A4-47B9-8C81-B277C61F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D68ED-C4CF-4502-83B6-9004C4275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666880" y="2755800"/>
            <a:ext cx="3808440" cy="13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2Z</dcterms:modified>
  <cp:revision>2</cp:revision>
  <dc:subject/>
  <dc:title>Slide 1</dc:title>
</cp:coreProperties>
</file>