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6463-BEEE-40CE-838A-73821E13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0D5-AE5C-44EF-BAAA-AB4CA78D4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DC28-E653-4637-AF5C-9F41076E9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A45D0-730E-4063-8B0C-F757AADF2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FF1F-EF9B-4C84-B2B1-691B5F325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C376-F84F-4702-899A-EC0CBACF0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CC1C-B481-4814-A795-0D8179147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65A-260F-4670-AB64-2CEFCC4EA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8C87-3614-4501-9340-484CB560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733-6135-4D2C-A62C-9FFA3FDB8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0352-3584-491F-9430-B47FBD5B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732D-8FD9-4F28-A12C-C8C01A284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721A1-1AE5-4528-858A-411E56DE59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52760" y="228600"/>
            <a:ext cx="4040280" cy="64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kiran</cp:lastModifiedBy>
  <dcterms:modified xsi:type="dcterms:W3CDTF">2007-11-13T08:32:12Z</dcterms:modified>
  <cp:revision>2</cp:revision>
  <dc:subject/>
  <dc:title>Slide 1</dc:title>
</cp:coreProperties>
</file>