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F9357-B5EB-45C3-B692-D86DF9332F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076C-9AA4-407A-AA87-A49F665A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58A3-66A0-431F-80AF-6A386B690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26FC-AF3A-46F9-9C39-E8CB98377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08FB-EE3E-4AB9-A38F-6B8916EE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CA1FD-5CF1-4A27-9D8A-9BDDFD8C3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EF32-87D4-4E40-BFEF-432CEBF54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EFC07-CC4B-4026-B4BD-621AEF11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3746-B046-43ED-BC4B-B2F8D00E4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4893-EDCC-493D-BE45-92790E24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FC733-C211-4006-BEA9-C735F9C2A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4A38-3749-46F0-9743-A8D7E6EC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F205-BBF1-4D66-B4F8-98BA8C823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2755800"/>
            <a:ext cx="3808440" cy="13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9:33:20Z</dcterms:created>
  <dc:creator>CEPHA</dc:creator>
  <dc:description/>
  <dc:language>en-US</dc:language>
  <cp:lastModifiedBy>kiran</cp:lastModifiedBy>
  <dcterms:modified xsi:type="dcterms:W3CDTF">2007-11-13T08:32:13Z</dcterms:modified>
  <cp:revision>2</cp:revision>
  <dc:subject/>
  <dc:title>Slide 1</dc:title>
</cp:coreProperties>
</file>