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A74AE-1522-4DC6-A0A2-A1E7CDFFB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F97E-1781-4F39-B594-A56C9CD57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7402-F434-48DE-9A50-15AC19AE9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3E30-25BA-450A-A2E4-0A304CA0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B006-9F2A-45F0-9B99-CA9C3C950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3625-39E8-4769-B491-69274F345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3C9-D7C7-4889-8F2E-21BD4AEC9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4B981-05B6-4BE2-AC33-589983F0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10764-0241-47CD-B118-7214C1CD5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702F-DE9B-4397-B13C-DDF4492F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E021C-7101-43A0-895D-D10B9C168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337ED-A538-4F5E-A713-D37597F01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252EF-B838-4A2E-BCCA-907741D01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43200"/>
            <a:ext cx="38084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6Z</dcterms:modified>
  <cp:revision>2</cp:revision>
  <dc:subject/>
  <dc:title>Slide 1</dc:title>
</cp:coreProperties>
</file>