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E6EF-2F84-486C-BBCB-FE58BEBC3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B18B-E7A4-4C72-92F1-F4807A476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43C5-A6F4-4DE2-AE17-C88C12C3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B998-BC15-4E2E-8B56-6EB0BC66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E0ADC-EC9A-4838-AF85-2F5AF65AF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1E8E-D249-4A75-BFD0-C65A68D66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2FA-9D78-4004-8CD9-E8A1DDFD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A44C7-690B-4680-A138-7CBA2693F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50E2-E8A4-47FC-86D6-9CE269AB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9F17-62FD-4F7A-BD0C-DB5EF988E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C6C4-A966-4EC7-8CBF-15CBC0222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511D4-F3FF-4308-A630-E256312C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AFE74-DAB7-4C5B-A6AA-181C065D2B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5Z</dcterms:modified>
  <cp:revision>2</cp:revision>
  <dc:subject/>
  <dc:title>Slide 1</dc:title>
</cp:coreProperties>
</file>