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929-0B65-4557-86D6-6CFE8BEE4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DE3-B8DC-4337-AD5F-93598107E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2939-FA77-4655-A459-30629EE00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B37A-2203-40C4-B61E-99B44858D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930C-0EFA-4E34-ABC0-2904FD2F9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63CC-767B-42BF-B7F7-4563DDB2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02D9C-6C94-44CA-9275-E0B42F936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1862-29A9-4B88-B892-618D83A81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C6290-6750-4BC5-B56C-1B698878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6D87-3232-44D2-ABD0-828385DD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04ED-5435-4F3C-B6EA-A90B95F95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98B95-A385-4750-A544-6D19D410E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BA85F-9776-4585-B5B0-1B8A94BBE8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55800"/>
            <a:ext cx="38084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6Z</dcterms:modified>
  <cp:revision>2</cp:revision>
  <dc:subject/>
  <dc:title>Slide 1</dc:title>
</cp:coreProperties>
</file>