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D07C-6BE0-41FC-969D-CBA1F8D69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FC05-01F5-4B41-AEAA-B8DBEDE24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57BB-6A13-4455-BB11-37F33D666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90B3-9DB8-42D0-96A7-1C1C60F3A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4650-E769-4574-8F24-015759542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B52D-D408-4823-B51D-B2793D5C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C9D-3FFF-436D-B1BC-BCCCC1CD1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FB41-A1FB-4449-BA6A-1A5035C43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3002-A006-4C54-90FF-E8C0579B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E489A-08B4-468F-B3DC-29E3FC00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28E41-FB08-43C8-B687-179BE512F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9222A-E43F-438D-9A6E-B057163F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F22A3-8D57-4285-A47F-894C43FCA2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14600" y="2811600"/>
            <a:ext cx="3852720" cy="137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8T09:33:20Z</dcterms:created>
  <dc:creator>CEPHA</dc:creator>
  <dc:description/>
  <dc:language>en-US</dc:language>
  <cp:lastModifiedBy>lavanya.u</cp:lastModifiedBy>
  <dcterms:modified xsi:type="dcterms:W3CDTF">2008-03-28T10:16:09Z</dcterms:modified>
  <cp:revision>4</cp:revision>
  <dc:subject/>
  <dc:title>Slide 1</dc:title>
</cp:coreProperties>
</file>