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648C-7E7F-4551-A8FA-CBF5EF951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B912-198C-4416-BFF4-AD13C16BC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73F6F-C238-48F9-968C-17513B37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0551F-AD9A-4350-B253-83D9DB79F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29F3D-AEA6-4FC7-B42D-C8823CC7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B1F0-F1AD-4F8F-AADD-F7A87F19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D957-3028-433A-B010-6A8514742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B008-5735-4EE6-9954-C5B80FEF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7347-55FA-4106-AC29-908AE903B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57833-BEDA-46DC-936B-A09D08AA8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D4D8D-073F-4690-A17D-E0A221BCD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0D3-3B56-4098-872F-B8CBDB9C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D227-752E-4F98-A621-988285526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2755800"/>
            <a:ext cx="38084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09:33:20Z</dcterms:created>
  <dc:creator>CEPHA</dc:creator>
  <dc:description/>
  <dc:language>en-US</dc:language>
  <cp:lastModifiedBy>kiran</cp:lastModifiedBy>
  <dcterms:modified xsi:type="dcterms:W3CDTF">2007-11-13T08:32:17Z</dcterms:modified>
  <cp:revision>2</cp:revision>
  <dc:subject/>
  <dc:title>Slide 1</dc:title>
</cp:coreProperties>
</file>