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0A08-5778-4A86-A6A1-E186A9D8A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ACF8-06B5-4809-95B2-9A4A4C369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88E3-31A6-4DF5-BA51-15742A78D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3FB0-A38E-41D3-AF07-71A79702A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0582-DF4F-4F13-B39F-4DAD3A1A4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FB3A-23B4-4B0F-BA32-ED41B151D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6EAC8-3BD8-42A6-9CAA-169ED8524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758B-3DBA-4B42-89D9-5526A3EFD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8B32-8782-42CA-B1BF-AA60C713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EF16-D9AA-4EED-B6D3-D1A1F3D17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FAC7-99AB-4259-8900-34409139F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997F-9687-439C-807B-7ACCEF872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DB094-7D8C-4F92-AF5B-918104AD2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2895480"/>
            <a:ext cx="380844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09:33:20Z</dcterms:created>
  <dc:creator>CEPHA</dc:creator>
  <dc:description/>
  <dc:language>en-US</dc:language>
  <cp:lastModifiedBy>kiran</cp:lastModifiedBy>
  <dcterms:modified xsi:type="dcterms:W3CDTF">2007-11-13T08:32:14Z</dcterms:modified>
  <cp:revision>2</cp:revision>
  <dc:subject/>
  <dc:title>Slide 1</dc:title>
</cp:coreProperties>
</file>