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1466-7DA5-4186-866C-517BBA7BE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DF6A-7CA6-4970-BD8C-5CB120988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1B40-D744-4DF7-8A89-4AF1BD48D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9AC0-A437-472C-8718-EF71475A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61D1-40EF-44A9-9B9E-F1178A9E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01847-F221-411C-AE2F-C63291657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B7B8-C91F-4880-A874-93E6643C8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7E35-D24D-48EF-89E6-A69B1F2E4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3B49-A4B2-4E6D-9894-39FE58F35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B997-0636-44E5-A54B-B6A7297C7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6A89-7414-447B-B62D-90871E20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DE8F4-A485-4D2A-A4F5-5E3309BD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580F2-621A-40B0-B8AD-BA0FA20A2D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6880" y="2755800"/>
            <a:ext cx="380844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8T09:33:20Z</dcterms:created>
  <dc:creator>CEPHA</dc:creator>
  <dc:description/>
  <dc:language>en-US</dc:language>
  <cp:lastModifiedBy>kiran</cp:lastModifiedBy>
  <dcterms:modified xsi:type="dcterms:W3CDTF">2007-11-13T08:32:17Z</dcterms:modified>
  <cp:revision>2</cp:revision>
  <dc:subject/>
  <dc:title>Slide 1</dc:title>
</cp:coreProperties>
</file>