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15A3-8C25-480C-B357-0AF7A239A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856A-953E-43B0-BBEB-1AD955A4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8CE17-C6E7-4A48-B665-919D12386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6EE6-BDEB-4CC5-A060-F6A86712B8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1A1B-78F0-4FC3-998E-F9DE6C0BD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CCD70-069B-4E4A-A8A7-114063145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39F2-5680-4EC1-B680-6C21E85C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27C1-A0B2-429F-81D3-0E21B8C48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E5A05-EA86-4D4C-829E-C4BE961C7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3B9B-F2E3-4962-B7CD-65AB85911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48D6-0741-4F0B-B0E4-E6837DED7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0B8C-FA40-40DF-BFDA-AB8429E3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A185A-4ADF-4623-8B20-08BD2E6CB8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5Z</dcterms:modified>
  <cp:revision>2</cp:revision>
  <dc:subject/>
  <dc:title>Slide 1</dc:title>
</cp:coreProperties>
</file>