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4F1-3B9C-4B60-B8B1-59396E9D7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D017-0C98-4695-8AD9-6BBC64A32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0232-1F08-4612-948B-5750CEF2C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44041-7006-4C2B-8687-B7E91F96F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85CA-BEDE-4A25-9719-FEC9A24FA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1C03-6102-4813-AC1F-F627FF93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9566-028B-4284-B3E3-06E95C49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6C0B-795F-41D1-8E88-42A5B2664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D870-E703-4D0A-87AB-8CB07AA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1B14-D802-4F85-9A91-3E119DBF2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1A0-3AD0-4025-B102-F010A39B2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3B002-7033-430F-9F9C-9FD737C00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C37B-3323-4EAA-893B-234827160C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8Z</dcterms:modified>
  <cp:revision>2</cp:revision>
  <dc:subject/>
  <dc:title>Slide 1</dc:title>
</cp:coreProperties>
</file>